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6C84-8F11-49AF-834D-D47636038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253-0AC5-4052-B383-DB79C519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B59-EC9A-41B2-ACAF-D190B8FC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A14-A724-4C6B-B59E-AB90FF27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D9A-AA66-47F0-96AC-62013CF3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C20F-39C5-4312-ADBD-939EFB87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C42B-4CE8-420D-87BA-9D7278D7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E8A-D0F7-41BC-82B2-6D84350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2C54-DB6E-4FE8-ACFD-DAF29371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27D4-187F-4D5A-BC45-5961B33E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0A39-7142-4E9C-8E5A-FB9E38F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00D3-356D-4CFA-9E0F-8050794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302-1AA7-4007-8508-651C9869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FCA7-2174-4E33-9C3D-41CF48F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F4E3-88CD-49A6-83AE-A628C8D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79C-2A13-4511-B8FC-06986B3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E707-71D5-4AEC-B0E8-7B182789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39C-AB25-4629-9A1D-893E084A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C7E-7909-4387-860B-009CCA8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E7D-CED6-4EC0-86DF-5B786EB0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1C7-DA45-4A45-93AD-0C008F9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B0A-E00C-4D69-AFBB-C448059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FD6-140C-4289-880C-54CFB21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DE3-A00F-4E58-90E6-13C0F88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7AF-08F8-4DA5-83A4-D1CB174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37A-3D34-4771-BBC4-08A81F243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B413-D68D-4AE1-987A-D78E25487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ЗЕНТ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демонстрационной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ой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Электрические цепи постоянного то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монстрация, эксперимент, обучение, проверка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ля учащихся школ 9-11 клас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343ff"/>
                </a:solidFill>
                <a:uFillTx/>
                <a:latin typeface="Arial"/>
              </a:rPr>
              <a:t>Пример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3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Курс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ы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поставлен на клавишу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« ?  Помощь » в  оглавлении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и сдела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один клик мыш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Для вас открылась страница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(помощь)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    с советами, как управлять   самой  программо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96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66ff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выхода из этого листа (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и  чтобы  снова оказаться в оглавлении  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 указать курсором на клавишу «Закрыть» в   этом  листе  и сделать один клик мышкой.               </a:t>
            </a:r>
            <a:r>
              <a:rPr b="1" lang="en-US" sz="1600" spc="-1" strike="noStrike">
                <a:solidFill>
                  <a:srgbClr val="dd0d21"/>
                </a:solidFill>
                <a:latin typeface="Arial"/>
              </a:rPr>
              <a:t>Сейчас  эта  команда  НЕ  СРАБОТАЕТ  т.к.   она   БУДЕТ  выполняться   ТОЛЬКО   В   САМОЙ   ПРОГРАММ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67120" y="11955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95480" y="6548400"/>
            <a:ext cx="26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 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343ff"/>
                </a:solidFill>
                <a:uFillTx/>
                <a:latin typeface="Arial"/>
              </a:rPr>
              <a:t>Пример  2.                  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07920"/>
            <a:ext cx="83534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Курсор в оглавлени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бы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на клавише  с   темой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«Закон Ома для полной цепи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ы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сделан один клик мыш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1547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e91547"/>
                </a:solidFill>
                <a:latin typeface="Arial"/>
              </a:rPr>
              <a:t>Этап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Для  вас   открылся   лист  с  минимальным,  но  совершенно необходимым,  набором  теории  по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данной  теме.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6842160" cy="374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8360" y="0"/>
            <a:ext cx="3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0"/>
            <a:ext cx="72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этом примере рассмотрим, как работает программа,  если     выбрана какая-нибудь заданная тема для её изучения .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заходя в любую  выбранную  Вами  тему, программ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дет   срабатывать в два этап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700280"/>
            <a:ext cx="107928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17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6553080"/>
            <a:ext cx="25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4797360"/>
            <a:ext cx="87487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Предполагается, что учащийся запишет у себя этот учебный материал и осмыслит 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После изучения теории надо закрыть этот лист и перейти на следующий лист с электрической схемой (</a:t>
            </a:r>
            <a:r>
              <a:rPr b="1" lang="en-US" sz="1400" spc="-1" strike="noStrike">
                <a:solidFill>
                  <a:srgbClr val="f91301"/>
                </a:solidFill>
                <a:latin typeface="Arial"/>
              </a:rPr>
              <a:t>Этап 2</a:t>
            </a: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), где </a:t>
            </a:r>
            <a:r>
              <a:rPr b="1" lang="en-US" sz="1600" spc="-1" strike="noStrike">
                <a:solidFill>
                  <a:srgbClr val="f4311c"/>
                </a:solidFill>
                <a:latin typeface="Arial"/>
              </a:rPr>
              <a:t>любые теоретические положения (для данной темы) можно увидеть в практическом исполнении в самой схеме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14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Для перехода 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хеме электрической</a:t>
            </a: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 надо поставить курсор на клавишу «Закрыть» в этом листе и сделать один клик мышкой.      ( </a:t>
            </a:r>
            <a:r>
              <a:rPr b="1" lang="en-US" sz="1200" spc="-1" strike="noStrike">
                <a:solidFill>
                  <a:srgbClr val="4343ff"/>
                </a:solidFill>
                <a:latin typeface="Arial"/>
              </a:rPr>
              <a:t>это и  будет  </a:t>
            </a:r>
            <a:r>
              <a:rPr b="1" lang="en-US" sz="1800" spc="-1" strike="noStrike">
                <a:solidFill>
                  <a:srgbClr val="dd0d21"/>
                </a:solidFill>
                <a:latin typeface="Arial"/>
              </a:rPr>
              <a:t>Этап 2.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  ).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4464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97640" y="6613560"/>
            <a:ext cx="264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елистывайте   стран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311c"/>
                </a:solidFill>
                <a:latin typeface="Arial"/>
              </a:rPr>
              <a:t>Этап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115920"/>
            <a:ext cx="67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Вы вошли в электрическую схему по теме 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«Закон Ома  для полной цеп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нопки слев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69228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для исполнения соответствующих кома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70160" y="227664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а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хема 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73360"/>
            <a:ext cx="9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В окнах</a:t>
            </a: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43840" y="2276640"/>
            <a:ext cx="200016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095480" cy="43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072200" y="3141720"/>
            <a:ext cx="20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1301"/>
                </a:solidFill>
                <a:latin typeface="Arial"/>
              </a:rPr>
              <a:t>выставляют</a:t>
            </a:r>
            <a:r>
              <a:rPr b="1" lang="en-US" sz="1400" spc="-1" strike="noStrike">
                <a:solidFill>
                  <a:srgbClr val="f9130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нужные велич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1640" y="3860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А в этих окн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659640" y="4292640"/>
            <a:ext cx="97164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292640"/>
            <a:ext cx="971640" cy="320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88000" y="4724280"/>
            <a:ext cx="288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1301"/>
                </a:solidFill>
                <a:latin typeface="Arial"/>
              </a:rPr>
              <a:t>наблюдают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, что будет происходить в схеме в соответствии с теори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3716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79280" y="765000"/>
            <a:ext cx="5724720" cy="4705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729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 </a:t>
            </a: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--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покажет</a:t>
            </a: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для  каждой ситуации  тот  график  функции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,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которую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Вы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закажете  в окнах по осям «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», «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Y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Запускают график через кнопку «Обновить график».     </a:t>
            </a:r>
            <a:r>
              <a:rPr b="1" lang="ru-RU" sz="1400" spc="-1" strike="noStrike">
                <a:solidFill>
                  <a:srgbClr val="dd0d21"/>
                </a:solidFill>
                <a:latin typeface="Arial"/>
              </a:rPr>
              <a:t>Не  забыли, что  эту  команду , как  и   любые другие , может  исполнять только  сама  программа</a:t>
            </a:r>
            <a:r>
              <a:rPr b="0" lang="ru-RU" sz="1400" spc="-1" strike="noStrike">
                <a:solidFill>
                  <a:srgbClr val="e9113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9113f"/>
                </a:solidFill>
                <a:latin typeface="Arial"/>
              </a:rPr>
              <a:t>?</a:t>
            </a:r>
            <a:r>
              <a:rPr b="0" lang="ru-RU" sz="1400" spc="-1" strike="noStrike">
                <a:solidFill>
                  <a:srgbClr val="e9113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e9113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 презен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ции  на   слайдах   эти    команды   НЕ  ИМЕЮТ  СИЛЫ .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листывайте   страниц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4640"/>
            <a:ext cx="6843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404640"/>
            <a:ext cx="90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0680" y="404640"/>
            <a:ext cx="73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ee2"/>
                </a:solidFill>
                <a:latin typeface="Arial"/>
              </a:rPr>
              <a:t>Измерительные приборы, применяемые в схемах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836640"/>
            <a:ext cx="867564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Источник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показан клеммам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куда  включ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чина напряжения указана в окн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у величину заказывают по желанию скачком ил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но (больше, меньше через один воль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ля работы лучше брать малые целые величины, что обычно применяют в жизни, чтоб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легче было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сти  расчеты   в уме  и  делать 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ольт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ждом участке электрической цепи подключены свои вольт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они показывают то текущее значение, которое будет получатьс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ной ситуации, в дан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и вольтметры не настраивают, они сами только измеряют, но всег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товы к измер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348000" y="1197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924360" y="1197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1800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0"/>
            <a:ext cx="842472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мпермет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ический ток – его протекание в цепи показывают стрелки,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яют ток, подводя курсор к стрелочке. Появившаяся надп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ывает какой ток и его велич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курсор подведён – там и производится измерение т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к в амперах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яжения в вольтах, а сопротивления 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м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роти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ина сопротивления в схемах выставляется (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к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в окне    около каждого сопротивления (тоже можно менять плавно или скачк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хемы электрическ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 собраны, имеют небольшое число участков, чтобы не пуг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а, но их можно трансформиров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 уменьшать число участков (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. н. участк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 добавлять число участков (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 нужного участк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  включать или отключать сопротивление через выключател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 )   замыкать участок накоротко (через выключате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  разрывать участок – выставить сопротивление этого учас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ым 999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476280"/>
            <a:ext cx="860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дует добави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хотите сделать обрыв в электрической цепи --- поставьте  величину сопротивления нужного участка побольше (наприме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9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а подаваемое напряжение установите маленькое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этом случае ток в цепи будет очень, очень малый (0, 0009 А), т.е. весьма близко к реальному обрыву в цеп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В окнах сопротивлений, токов и напряжений помещается четыре зна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хотите сделать короткое замыкание, то поставьте величину сопротивления на нужном участке равным </a:t>
            </a:r>
            <a:r>
              <a:rPr b="1" lang="en-US" sz="2400" spc="-1" strike="noStrike">
                <a:solidFill>
                  <a:srgbClr val="dc304d"/>
                </a:solidFill>
                <a:latin typeface="Arial"/>
              </a:rPr>
              <a:t>(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В этом случае сопротивление на участке следует считать просто куском провод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нажатие на кнопку «Помощь» </a:t>
            </a:r>
            <a:r>
              <a:rPr b="1" lang="en-US" sz="1800" spc="-1" strike="noStrike">
                <a:solidFill>
                  <a:srgbClr val="d717c0"/>
                </a:solidFill>
                <a:latin typeface="Arial"/>
              </a:rPr>
              <a:t>в конкретных тем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удет открывать страницу с </a:t>
            </a:r>
            <a:r>
              <a:rPr b="1" lang="en-US" sz="1800" spc="-1" strike="noStrike">
                <a:solidFill>
                  <a:srgbClr val="e33db8"/>
                </a:solidFill>
                <a:latin typeface="Arial"/>
              </a:rPr>
              <a:t>теорией для этой 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Каждая тема в программе начинается именно с набора самого необходимого учебного материала для данной темы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60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92720" cy="362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3789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Так было до постановки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3789360"/>
            <a:ext cx="44276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выглядит поставленная задача,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а после замыкания  выключателя 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S1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и подачи питания  кнопкой «Вкл», виден получаемый ответ (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падение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напряжения   на зажимах источника  и ток в цепи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), а на графике – заказанная функция</a:t>
            </a:r>
            <a:r>
              <a:rPr b="0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1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«поведение  падения     напряжения   на зажимах   источника   от  изменения сопротивления нагрузки».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93000"/>
            <a:ext cx="8893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311c"/>
                </a:solidFill>
                <a:latin typeface="Arial"/>
              </a:rPr>
              <a:t>Вот теперь можно</a:t>
            </a:r>
            <a:r>
              <a:rPr b="1" lang="en-US" sz="2400" spc="-1" strike="noStrike">
                <a:solidFill>
                  <a:srgbClr val="f4311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750ffd"/>
                </a:solidFill>
                <a:latin typeface="Arial"/>
              </a:rPr>
              <a:t>наблюдать</a:t>
            </a:r>
            <a:r>
              <a:rPr b="1" lang="en-US" sz="1400" spc="-1" strike="noStrike">
                <a:solidFill>
                  <a:srgbClr val="f4311c"/>
                </a:solidFill>
                <a:latin typeface="Arial"/>
              </a:rPr>
              <a:t> царство эксперимента – что хочешь меняй и тут же наблюдай, что получается !!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ак  можно  и  нужно  работать  с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ЮБОЙ  СХЕМО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и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тем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400536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4767120"/>
            <a:ext cx="50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ж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?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.    =  ?          (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блюдаю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Какое будет падение напряжения на зажимах      источника и ток в цепи 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4292640"/>
            <a:ext cx="439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0d2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dd0d21"/>
                </a:solidFill>
                <a:latin typeface="Arial"/>
              </a:rPr>
              <a:t>Пример   задач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E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ист.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=12 в ;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ист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=4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ма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=8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м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;      (</a:t>
            </a:r>
            <a:r>
              <a:rPr b="1" lang="ru-RU" sz="1200" spc="-1" strike="noStrike">
                <a:solidFill>
                  <a:srgbClr val="f91301"/>
                </a:solidFill>
                <a:latin typeface="Arial"/>
              </a:rPr>
              <a:t>устанавливают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4370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5084640"/>
            <a:ext cx="403236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165720"/>
            <a:ext cx="45007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0" y="5589720"/>
            <a:ext cx="0" cy="504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5589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589720"/>
            <a:ext cx="450072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50920" y="6907320"/>
            <a:ext cx="73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589720"/>
            <a:ext cx="0" cy="5760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0920" y="404640"/>
            <a:ext cx="88930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4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Именно в этот момент учитель должен ставить проблемные вопросы, ответы на которые обсуждаются с учениками, выбирается какое-то решение, а когда договорились – учитель включает питание в схеме,         и  она  начнет   показывать правильный ответ, который обязательно будет соответствовать законам теор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Сколько разных  проблем сумеете задать, столько раз получите наглядных ответов немедленно, столько раз ученики будут расширять горизонт своих знаний, </a:t>
            </a:r>
            <a:r>
              <a:rPr b="1" lang="ru-RU" sz="1800" spc="-1" strike="noStrike">
                <a:solidFill>
                  <a:srgbClr val="f4311c"/>
                </a:solidFill>
                <a:latin typeface="Arial"/>
              </a:rPr>
              <a:t>но теперь ОНИ всё это САМИ ВИДЕЛИ(!)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, и оказывается, «в учебнике-то об этом тоже было написано, только не так понятно, как стало сейчас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4343ff"/>
                </a:solidFill>
                <a:uFillTx/>
                <a:latin typeface="Arial"/>
              </a:rPr>
              <a:t>Для примера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 – несколько проблемных вопросов по этой те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--  Падение  напряжения  на  зажимах </a:t>
            </a:r>
            <a:r>
              <a:rPr b="1" lang="ru-RU" sz="2000" spc="-1" strike="noStrike">
                <a:solidFill>
                  <a:srgbClr val="1314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131400"/>
                </a:solidFill>
                <a:latin typeface="Arial"/>
              </a:rPr>
              <a:t>U</a:t>
            </a:r>
            <a:r>
              <a:rPr b="1" lang="ru-RU" sz="900" spc="-1" strike="noStrike">
                <a:solidFill>
                  <a:srgbClr val="131400"/>
                </a:solidFill>
                <a:latin typeface="Arial"/>
              </a:rPr>
              <a:t>Заж</a:t>
            </a:r>
            <a:r>
              <a:rPr b="1" lang="ru-RU" sz="2000" spc="-1" strike="noStrike">
                <a:solidFill>
                  <a:srgbClr val="1314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и ЭДС источника (</a:t>
            </a:r>
            <a:r>
              <a:rPr b="1" lang="el-GR" sz="2800" spc="-1" strike="noStrike">
                <a:solidFill>
                  <a:srgbClr val="131400"/>
                </a:solidFill>
                <a:latin typeface="Arial"/>
                <a:ea typeface="Arial"/>
              </a:rPr>
              <a:t>ε</a:t>
            </a:r>
            <a:r>
              <a:rPr b="1" lang="ru-RU" sz="900" spc="-1" strike="noStrike">
                <a:solidFill>
                  <a:srgbClr val="131400"/>
                </a:solidFill>
                <a:latin typeface="Arial"/>
                <a:ea typeface="Arial"/>
              </a:rPr>
              <a:t>ист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  <a:ea typeface="Arial"/>
              </a:rPr>
              <a:t>) измеряют, подключая вольтметр на клеммы источника. Величина замеров будет одинакова?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  <a:ea typeface="Arial"/>
              </a:rPr>
              <a:t>(И тут же на схеме показать, но после ответа учен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  <a:ea typeface="Arial"/>
              </a:rPr>
              <a:t>-- </a:t>
            </a:r>
            <a:r>
              <a:rPr b="1" lang="el-GR" sz="2800" spc="-1" strike="noStrike">
                <a:solidFill>
                  <a:srgbClr val="131400"/>
                </a:solidFill>
                <a:latin typeface="Arial"/>
              </a:rPr>
              <a:t>ε</a:t>
            </a:r>
            <a:r>
              <a:rPr b="1" lang="ru-RU" sz="1000" spc="-1" strike="noStrike">
                <a:solidFill>
                  <a:srgbClr val="131400"/>
                </a:solidFill>
                <a:latin typeface="Arial"/>
              </a:rPr>
              <a:t>ист 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= 12 В.   К зажимам этого аккумулятора подключили фару. Сколько вольт на фаре?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заказать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: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ЭДС =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12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В, сопротивление нагрузки =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Ом 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ист.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=4;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после включения питания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аблюдать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падение  напряжения на                                                                                           </a:t>
            </a: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зажимах и ток,  сравнивая  с  ЭДС  источника.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-- А если подключить две фары (конечно параллельно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                                     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всё, как прежде, но сопротивление нагрузки – 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5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Ом, ведь два  равных параллельных,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снова  наблюдайте  изменения  и  сравнивайте   и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89000"/>
            <a:ext cx="8964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 фара включена на зажимы аккумулятора. На ней – 11 В. Сюда же подключим вторую такую же фару. Сколько вольт будет на второй фа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А на первой в этом случае?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И опять тут же показать на схеме, но после ответа учеников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на   схеме сначала поставить </a:t>
            </a:r>
            <a:r>
              <a:rPr b="1" lang="en-US" sz="16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, а потом </a:t>
            </a:r>
            <a:r>
              <a:rPr b="1" lang="en-US" sz="16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343ff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468000" y="1052640"/>
            <a:ext cx="7128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32360" y="1341360"/>
            <a:ext cx="31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ff"/>
                </a:solidFill>
                <a:latin typeface="Arial"/>
              </a:rPr>
              <a:t>Наблюдать за вольтметром на зажим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700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аккумулятор простоял в гараже всю зиму без включения. Напряжение на его зажимах оказалось около 12 В. Подключили его, но стартёр не включается.  В чём причин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060640"/>
            <a:ext cx="516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Меняйте </a:t>
            </a:r>
            <a:r>
              <a:rPr b="1" lang="en-US" sz="32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ист в большую сторону, не меняя нагрузки, и наблюдайте  падение </a:t>
            </a:r>
            <a:r>
              <a:rPr b="0" lang="ru-RU" sz="1200" spc="-1" strike="noStrike">
                <a:solidFill>
                  <a:srgbClr val="434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напряжения   на  зажимах, сравнивая с величиной ЭДС, получаем отв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68640"/>
            <a:ext cx="88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какой источник питания лучше: с большим внутренним сопротивлением или с мал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8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сколько вольт падает на внутреннем сопротивлении источника? Отчего зависит эта велич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0864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 что такое «ток короткого замыкания»  для источника ?                                                                 </a:t>
            </a:r>
            <a:r>
              <a:rPr b="1" lang="en-US" sz="24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н = от  </a:t>
            </a:r>
            <a:r>
              <a:rPr b="1" lang="ru-RU" sz="2400" spc="-1" strike="noStrike">
                <a:solidFill>
                  <a:srgbClr val="ec194d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ec194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c194d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плавно  менять, наблюдать  за  током  </a:t>
            </a:r>
            <a:r>
              <a:rPr b="1" lang="en-US" sz="2800" spc="-1" strike="noStrike">
                <a:solidFill>
                  <a:srgbClr val="750ffd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н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50ffd"/>
                </a:solidFill>
                <a:latin typeface="Arial"/>
              </a:rPr>
              <a:t>                                           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Оба источника с ЭДС = 12 В, но с разными   внутренними сопротивлениями. Оба замыкаются накоротко.  У них будет  по  величине  одинаковый ток короткого замыкания?                                                             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се, как в предыд.  примере, но    при  разных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cc"/>
                </a:solidFill>
                <a:latin typeface="Arial"/>
              </a:rPr>
              <a:t>ист.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.    См.  за  током  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66cc"/>
                </a:solidFill>
                <a:latin typeface="Arial"/>
              </a:rPr>
              <a:t>н.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39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7138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равствуй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ажаемый ценитель новог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час у Вас в руках  презентация компьютерной  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лектрические цепи постоянного ток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демонстрация, эксперимент, обучение, проверка зн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означает, что сейчас каждый просматриваемый лист есть только  фотография какого-то мгновения из программы, то есть ничего изменить  невозможно, только смотри, сравнивай и дум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работе с самой программой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всё ожива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аждый миг буд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овать реальному состоянию при любом изменении люб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ра в рассматриваемых схемах. При этом все показания приборов  будут точно соответствовать существующим законам и закономерностям электротех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8760" y="136440"/>
            <a:ext cx="880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ток короткого замыкания для разных источников одинаковой величи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для данного источника с его ЭДС и внутренним сопротивлением может быть получен ток больше, чем ток короткого замыка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почему нельзя допускать короткого замыкания аккумуляторам, любому источнику питания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492280"/>
            <a:ext cx="837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Сколько раз сумеете задать ученику этих проблемных « почему », столько раз ОН УВИДИТ правильных ответов, столько раз будет расширяться его глубина познания этого учеб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Уровень  сложности самих « почему » и их количество зависит только от учителя, а эта компьютерная программа всегда готова помочь ЕМУ их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РЕШИТЬ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и 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ПОКАЗАТЬ РЕШЕНИЕ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365720"/>
            <a:ext cx="83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ет обратить особое внимание на то, что с помощью этой программы 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значительно   экономится учебное вре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так как смена ситуаций в схемах под конкретный вопрос требует всего 7 – 10 секунд,  а решение уже гото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программа используется через проектор, то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вся аудитор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участвует в обсуждении и наблюдает реш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ив ноутбук и проектор с экраном, вы сможете использовать эту программу даже в любом клас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0"/>
            <a:ext cx="808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того, чтобы оценить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ысокую демонстрационную возмож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этой программы, предлагаю взглянуть ещё на один фрагмент, хотя бы на  тему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«параллельное соединение сопротивлени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вление программой точно такое же, как было описано выш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зайдите в оглав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выберите тему «Параллельное включение сопротивлен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снова будет лист с теорией, закройте 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появилась сама схе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5058000" cy="3311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256536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видите, схема простая, не пугает учеников, но её можно моделировать множеством вариантов.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3645000"/>
            <a:ext cx="2793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343ff"/>
                </a:solidFill>
                <a:uFillTx/>
                <a:latin typeface="Arial"/>
              </a:rPr>
              <a:t>Например.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чистое параллельное соеди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194d"/>
                </a:solidFill>
                <a:latin typeface="Arial"/>
              </a:rPr>
              <a:t>Закажи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=0, R3=0, S1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ключить, нужные величи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, R4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казать по желани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760" y="638172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021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простоты расчётов при размышлениях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ите небольшие целые величин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Например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=20, R3=30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5 В. </a:t>
            </a:r>
            <a:r>
              <a:rPr b="1" lang="ru-RU" sz="1400" spc="-1" strike="noStrike">
                <a:solidFill>
                  <a:srgbClr val="f4311c"/>
                </a:solidFill>
                <a:latin typeface="Arial"/>
              </a:rPr>
              <a:t>Теперь ставьте проблемы и смотрите отв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52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796000" y="189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казу выставлены  величи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, R4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 предыдущей  страницы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440" y="549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5440" y="1197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197000"/>
            <a:ext cx="29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ён выключате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ено пит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4160" y="191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184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тивлен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, R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, это теперь куски 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94160" y="270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75480" y="265572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Наблюд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ыводы в окнах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3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57336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Сколько вольт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Почему так?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См.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933720"/>
            <a:ext cx="85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Посчитайте по формуле общее эквивалентное сопротивление участка «2 – 3» Компьютер не ошибается?                    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См.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общ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4508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каким по величине оказывается  эквивалентное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 )  сопротивление по сравнению с величин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             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См.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общ.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, сравни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2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R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6200" y="5087880"/>
            <a:ext cx="876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если 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=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каким станет эквивалентное сопротивление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)?                                                           </a:t>
            </a:r>
            <a:r>
              <a:rPr b="1" lang="ru-RU" sz="1800" spc="-1" strike="noStrike">
                <a:solidFill>
                  <a:srgbClr val="ea1667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a1667"/>
                </a:solidFill>
                <a:latin typeface="Arial"/>
              </a:rPr>
              <a:t>установить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f0b3c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ef0b3c"/>
                </a:solidFill>
                <a:latin typeface="Arial"/>
              </a:rPr>
              <a:t> 4 =</a:t>
            </a:r>
            <a:r>
              <a:rPr b="1" lang="ru-RU" sz="1600" spc="-1" strike="noStrike">
                <a:solidFill>
                  <a:srgbClr val="ef0b3c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030008"/>
                </a:solidFill>
                <a:latin typeface="Arial"/>
              </a:rPr>
              <a:t>,(затем  </a:t>
            </a:r>
            <a:r>
              <a:rPr b="1" lang="ru-RU" sz="1600" spc="-1" strike="noStrike">
                <a:solidFill>
                  <a:srgbClr val="030008"/>
                </a:solidFill>
                <a:latin typeface="Arial"/>
              </a:rPr>
              <a:t>100 </a:t>
            </a:r>
            <a:r>
              <a:rPr b="1" lang="ru-RU" sz="1200" spc="-1" strike="noStrike">
                <a:solidFill>
                  <a:srgbClr val="030008"/>
                </a:solidFill>
                <a:latin typeface="Arial"/>
              </a:rPr>
              <a:t> для  сравнения),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 наблюдать  за    </a:t>
            </a:r>
            <a:r>
              <a:rPr b="1" lang="ru-RU" sz="9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общ., включая, выключая  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S1</a:t>
            </a:r>
            <a:r>
              <a:rPr b="1" lang="ru-RU" sz="1600" spc="-1" strike="noStrike">
                <a:solidFill>
                  <a:srgbClr val="ef0b3c"/>
                </a:solidFill>
                <a:latin typeface="Arial"/>
              </a:rPr>
              <a:t>.  Наблюдаемый  вывод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: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1).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при  параллельном  соединении  величина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экв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.  всегда  меньше   величины  меньшего  сопротивления.    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2).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Следует  обратить  внимание  на  токи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dc304d"/>
                </a:solidFill>
                <a:latin typeface="Arial"/>
              </a:rPr>
              <a:t>общ.,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dc304d"/>
                </a:solidFill>
                <a:latin typeface="Arial"/>
              </a:rPr>
              <a:t>1,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2</a:t>
            </a:r>
            <a:r>
              <a:rPr b="1" lang="ru-RU" sz="1600" spc="-1" strike="noStrike">
                <a:solidFill>
                  <a:srgbClr val="dc304d"/>
                </a:solidFill>
                <a:latin typeface="Arial"/>
              </a:rPr>
              <a:t>,  их  </a:t>
            </a:r>
            <a:r>
              <a:rPr b="1" lang="ru-RU" sz="1200" spc="-1" strike="noStrike">
                <a:solidFill>
                  <a:srgbClr val="dc304d"/>
                </a:solidFill>
                <a:latin typeface="Arial"/>
              </a:rPr>
              <a:t>изменение  по  величине ,  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баланс  токов  в  узлах  </a:t>
            </a:r>
            <a:r>
              <a:rPr b="1" lang="ru-RU" sz="1800" spc="-1" strike="noStrike">
                <a:solidFill>
                  <a:srgbClr val="dc304d"/>
                </a:solidFill>
                <a:latin typeface="Arial"/>
              </a:rPr>
              <a:t>«2»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  и </a:t>
            </a:r>
            <a:r>
              <a:rPr b="1" lang="ru-RU" sz="1800" spc="-1" strike="noStrike">
                <a:solidFill>
                  <a:srgbClr val="dc304d"/>
                </a:solidFill>
                <a:latin typeface="Arial"/>
              </a:rPr>
              <a:t> «3»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,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заказывая изменения  величин  сопротивлений и  (или)  напряжения  пит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Вы  установили  следующие  параметры  схемы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=10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=7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=15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=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=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ция схем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Смешанное соединение сопротивлений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»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произошла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если  замкнули   ключ  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Изменяя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  к.н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.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араметр  ( размыкание  ключа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1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; напряжение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3333ff"/>
                </a:solidFill>
                <a:latin typeface="Arial"/>
              </a:rPr>
              <a:t>ист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или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величину к.н.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можно  будет  увидеть  изменения  всех  токов (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общ,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1;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;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;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),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сопротивления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общ. </a:t>
            </a:r>
            <a:r>
              <a:rPr b="1" lang="ru-RU" sz="10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  всех  падений  напряжений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U1,U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2,3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U3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се это сразу  в одно мгновение человек увидеть не способен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Поэтом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640720" cy="414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вет  от  автора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из личного опыта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икогда  не  пытайтесь  наблюдать  сразу  все  изменения  в  схеме, даже  от  одной  замены  к.н.  параметра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!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Лучше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указать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куда  следует  смотреть, а  изменение  параметра произвести 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с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колько 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вот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было -  стало, было - стало  , было –ста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.  Только  в  этом  случае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чно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не  ускользнет  происходящее!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верно говорят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двумя  зайцами погонишься – ни одного  не поймаеш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ак и у нас в рассматриваемом  случае : только одно изменение ключом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(выключить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ызовет в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8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ах  в  схеме  изменение  величин  параметров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.  НЕ  СУМЕТЬ  УВИДЕТЬ  ВСЕ СРАЗ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а, похоже, и  не  на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Лучше — концентрируйте внимание, указывая,  куда  надо  смотреть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ольше  пользы  будет.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первую  очередь  надо  смотреть  туда, где  Ваш  проблемный вопрос  решается. 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Наприм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нашей схеме  рассматривается   вопрос «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анс  токов в уз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н  всегда  сохраня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-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ете  измен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 и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блюдаете  за  изменениями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менно  то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не  оглядываясь  на  все  вольтметры  и  н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бщ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где  тоже  произойдут  изменения  показаний.  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Этот  совет   полезен  при  каждом   эксперимен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Как   выглядят   экспериментальные   мгновения   для  данного  случая  см.  на  следующую   страниц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871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--- начальное  состояние,  сравнивайте  с  ним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на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ис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и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ис.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076640"/>
            <a:ext cx="5292720" cy="24987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йчас  при  заданных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им  все   токи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  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Баланс  токов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в  узле  «2» выполняется?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1+I2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49 = 1,1+0,38=1,4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!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”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О  будет  ли  он  выполняться  при изменении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любого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R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м. Рис.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или   напряжения   питания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м. Рис.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работе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  програм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все  изменения  токов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идно  непрерыв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 пока   меняются   величины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 напряжения.                                                        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На  Ваших   рисунках (Рис.2  и  Рис.3)</a:t>
            </a:r>
            <a:r>
              <a:rPr b="1" lang="ru-RU" sz="1200" spc="-1" strike="noStrike">
                <a:solidFill>
                  <a:srgbClr val="090014"/>
                </a:solidFill>
                <a:latin typeface="Arial"/>
              </a:rPr>
              <a:t> в</a:t>
            </a:r>
            <a:r>
              <a:rPr b="1" lang="en-US" sz="1200" spc="-1" strike="noStrike">
                <a:solidFill>
                  <a:srgbClr val="09001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это   выглядит   только    как  </a:t>
            </a:r>
            <a:r>
              <a:rPr b="1" lang="ru-RU" sz="1200" spc="-1" strike="noStrike">
                <a:solidFill>
                  <a:srgbClr val="0a0018"/>
                </a:solidFill>
                <a:latin typeface="Arial"/>
              </a:rPr>
              <a:t>застывшее   какое-то    </a:t>
            </a:r>
            <a:r>
              <a:rPr b="1" lang="en-US" sz="1200" spc="-1" strike="noStrike">
                <a:solidFill>
                  <a:srgbClr val="0a0018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a0018"/>
                </a:solidFill>
                <a:latin typeface="Arial"/>
              </a:rPr>
              <a:t>мгновение</a:t>
            </a:r>
            <a:r>
              <a:rPr b="0" lang="ru-RU" sz="12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!   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НО  эффект ,однако, ясен.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645000"/>
            <a:ext cx="9352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645000"/>
            <a:ext cx="1152360" cy="368280"/>
          </a:xfrm>
          <a:prstGeom prst="rect">
            <a:avLst/>
          </a:prstGeom>
          <a:solidFill>
            <a:srgbClr val="99f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3645000"/>
            <a:ext cx="11523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4797360"/>
            <a:ext cx="3780000" cy="2060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4292640"/>
            <a:ext cx="2139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4032360"/>
            <a:ext cx="3780000" cy="3003840"/>
          </a:xfrm>
          <a:prstGeom prst="rect">
            <a:avLst/>
          </a:prstGeom>
          <a:solidFill>
            <a:srgbClr val="99fdea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  рис.2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меняли тольк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но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токи изменились  везде.  ОДНАКО « баланс  токов» в узле «2» 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ОХРАНЯЕТСЯ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!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995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0,738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,258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I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99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900" spc="-1" strike="noStrike">
                <a:solidFill>
                  <a:srgbClr val="ff0000"/>
                </a:solidFill>
                <a:latin typeface="Arial"/>
              </a:rPr>
              <a:t>общ.)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рис.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мен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олько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е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с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1 в. ,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нова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в с е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токи  изменились, но « баланс токов»  в  узле  «2»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ять  есть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!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,695=0,515+0,18=0,6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ЭТО   ЗАКОН   ЛЮБОГО    УЗЛА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!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акая величина тока входит в узел , ровно   столько  в   сумме  и  выходит  из  узл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 !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2276640"/>
            <a:ext cx="81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2735280" cy="3382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635280" cy="338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627280" cy="338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435640" y="5013360"/>
            <a:ext cx="3529080" cy="0"/>
          </a:xfrm>
          <a:prstGeom prst="line">
            <a:avLst/>
          </a:prstGeom>
          <a:ln w="28440">
            <a:solidFill>
              <a:srgbClr val="09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805360"/>
            <a:ext cx="514836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9188280"/>
          </a:xfrm>
          <a:prstGeom prst="rect">
            <a:avLst/>
          </a:prstGeom>
          <a:solidFill>
            <a:srgbClr val="4efc8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м  сейчас  был показан  один  проблемный  вопрос  из  конкретной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ы , а   таких  вопросов  столько,  сколько  может  и хочет   постав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этой  теме   учитель.  При  этом  решаются  все  они  по  принципу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нному  на  предыдущей  странице .  Аналогичным  образом  ид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  рассматриваемой  программы  в   любой  из   четырех  тем ,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х  для  изучения  цепей  постоянного  тока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искну  еще  раз  напомн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ставьте  проблем  сколько  хотите , как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ите ,  а  правильный  ответ  всегда  ищите   в  показаниях   на  сх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изучаемой   теме , НО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ЖИДАЕМЫЙ  ОТВЕТ  СНАЧАЛА  ПУСТЬ  ДАДУ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ЧЕНИ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,а  потом  Вы  им  показываете  и,  если  надо,  подсказыва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т  теперь  пойдет  наглядная ,  живая , интересная  уче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  довольны ,что  все  видно  и  понятно ,а  учитель  у  них  чудо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ИЙ   ВОЛШЕБН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  разобрались  с  работой  блока  изучаемых  тем  и  частично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00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комились  с  идеями  методики , применяемой  при  работе  с  программой 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перь  следует  посмотреть,  как  работает программа  в  разделе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онтроль 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самоконтроль  за  качеством  усвоения  учебного 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Этот  раздел программы  предназначен  , в  основном ,   дл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ен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 но  и  для  учителя  будет  тоже  хорошим  помощ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34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14172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500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ля ученика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программа даёт то же самое, чт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чителя, только он, зная свой ответ на вопро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яет его правильность через данные, котор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ёт ему схема, смоделированная под зада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полагаемый ответ совпал с решением в схеме – ученик доволен – он знает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от если схема выдаёт другой ответ, отличный от предполагаемого учеником, то тут вступает его мозговая атака: почему не так, что не учёл, что я забыл (не знал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ясь подсказками программы или советом учителя, ученик добивается верного ответа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чится позна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692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0"/>
            <a:ext cx="844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81080" y="0"/>
            <a:ext cx="9325080" cy="84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ждая   тема  содержит  узлы  самоучителя  и  самоконтроля  качества  усвоения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ебного  материала.   Ученик ,записав  и  осмыслив  теорию ,  получает  доступ  к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рии  проблемных  вопросов ,  ответ   на   которые  он  сравнивает  с  кодовыми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, вдруг ,  ответ  окажется  НЕ  верный  ,  то  в  специальном  окне  ему  выдае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зюме  и  совет :  на  что  надо   обратить  внимание  или  , что  надо  сделать , чтоб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брать   ошибку.  В  этой  ситуации  ученик  имеет  доступ  к  схеме  электрической   и  ,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казывая ( моделируя) ,   свою  задачу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,  получа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и д и 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авильный  ответ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Теперь  ему  надо  обязательно  домыслить : « почему  это  так  получается ? 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Естественно,  если  у  него  было  слабое  восприятие  теории  и   даже  подсказки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ничего  не  дали  ,  ТО  ЕМУ  В  ЭТОТ  МОМЕНТ  НУЖЕН   ПОМОЩНИК- консультант,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лучше  учитель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 ответ  был  правильный ,  то  тоже  предлагается  короткое  резюме  и  следует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глашение  к  следующему  вопросу .   В  каждой   теме   таких  проблемных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ов   -  десять.     После   успешного   ответа   на  все   кодовые    вопрос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енику    предлагаются      еще   6 – 10   дополнительных  ( в  разных   темах   разно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личество )  проблемных   вопросов  ,  которые   предназначены   для   дальнейшего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ширения   знаний  .  Ответы  на   эти   вопросы  уже  не   комментируются   ,  но    их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блюдают    в   схемах  ,  которые   смоделированы     под    каждый    конкретный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й     вопрос.   Предполагаемый    ответ    ученика    должен    совп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  происходящим   в  схеме.    ИМЕННО   НАБЛЮДАЕМОЕ    В    СХЕМЕ    И    Е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НЫЙ   ОТВЕТ  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Очень   рекомендую  ,  хотя   бы  иногда  ,  понаблюдать   со   стороны ,  тихонько  ,   за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эмоциями    ученика  ,   когда  у  него  ,  наконец ,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впало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едполагаемое   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йствительным  !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Необычное    зрелище  !  И  эти  глаза  … !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Н »   познал   и  у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видел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то  !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Многого    стоит    быть   участником   такого  .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радуйтесь  за   него  и  за   себя    тоже  ,   ведь   это   ВАША    заслуга.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64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комьтесь, как выглядит принцип самообучения и самоконтроля в програм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solidFill>
            <a:srgbClr val="84ecea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обным образом разбир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жды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облемный вопрос 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о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теме програм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840" y="1239840"/>
            <a:ext cx="49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Заказывается проблемный вопрос (задача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28640"/>
            <a:ext cx="9010800" cy="703800"/>
          </a:xfrm>
          <a:prstGeom prst="rect">
            <a:avLst/>
          </a:prstGeom>
          <a:solidFill>
            <a:srgbClr val="84e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делируя эту задачу в схеме электрической, можн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блюда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тверждение вашего решения, или, если хотит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учи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анные правильного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2349360"/>
            <a:ext cx="70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К заданному вопросу прилагаются три закодированных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781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040" y="2824200"/>
            <a:ext cx="86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Выбранный правильный ответ отмечается соответствующим кодом – ответ 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3284640"/>
            <a:ext cx="856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Каждый ответ в специальном окне резюмируется (верно-неверно) и сопровождается соответствующими пояснениями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либо подсказка для правильного решения, либо подтверждение правильности вашего решения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Только после правильного ответа на предыдущий вопрос автоматически выдаётся следующий. Вопросы можно и самостоятельно перелист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869000"/>
            <a:ext cx="8732880" cy="642240"/>
          </a:xfrm>
          <a:prstGeom prst="rect">
            <a:avLst/>
          </a:prstGeom>
          <a:solidFill>
            <a:srgbClr val="de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показан на следующей странице, предполагая, что 6 предыдущих вопросов были решены.           Сейчас для ответа выставлен вопрос №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89000"/>
            <a:ext cx="8064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агаемая  Вашему  вниманию  программа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 Электрические  цепи  постоянного  тока»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т  в  своем  активе :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блок   изучаемых    т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довательное  соединение  сопротивлений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ьное  соединение    сопротивлени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ери  напряжения  в  проводах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  Ома  для  полной  цеп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лок   экзаменационн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лок  анализа  экзаменационных  рабо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Все  эти  блоки   показаны  своими  названиями  на  клавишах  в   странице  « ОГЛАВЛЕНИЕ»</a:t>
            </a:r>
            <a:r>
              <a:rPr b="1" lang="en-US" sz="1800" spc="-1" strike="noStrike">
                <a:solidFill>
                  <a:srgbClr val="fc9e8e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ая  изучаемая    тема  имеет  ,  в  свою  очередь ,  свои   функциональные      блоки  и  узлы: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учебный   материа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 -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схема  электрическ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-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самоучитель ( репетитор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-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контроль  и  самоконтроль  за  качеством усвоения учебного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4941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941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619280" y="48690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7080" y="48690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" y="5433840"/>
            <a:ext cx="77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084640"/>
            <a:ext cx="4033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 отвечаете на вопрос №7, выбрав код предполагаемого верного ответа (в нашем случае был сделан ответ «б»). В окне выдаётся резюме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шиб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дсказка говорит, где она. После размышления выбирается новый ответ (см.рис.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51480" y="5084640"/>
            <a:ext cx="45925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размыслив, принимаем решение, что надо было отвечать кодом «а». После ответа кодом «а» опять в окне выдаётся резюме,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язательно пояс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тобы подтвердить правильность пути вашего размыш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127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сле правильного ответа на данный вопрос вызывается следующий, снова даёте ответ  по подобию(на рис.6 и 7), и так до последнего вопроса. Идёт практическое обучение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и этом на заданный вопрос всегда можно получить верный ответ, моделируя ситуацию в схе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788000" cy="321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284720" cy="3213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22400" y="32749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21080" y="36450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9800" y="36450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6440" y="0"/>
            <a:ext cx="85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ЧЁТНАЯ РАБОТА ПО РАЗДЕЛУ «ЭЛЕКТРИЧЕСКИЕ ЦЕПИ ПОСТОЯННОГО ТО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8760" y="3976560"/>
            <a:ext cx="441324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После изучения всех т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чащий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глашае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экзамен для определения качества усвоения учебного материала по данному разделу. Для этого в оглавлении клавиш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Экзамен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ызывается регистрационная карточка, куда записывается фамилия и имя экзаменуемого. После нажатия на клавиш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ОК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ы увидите условия для зачёта экзаменационной работы (см.рис.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076640"/>
            <a:ext cx="428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 зарегистрированы,  и   получили приглашение на экзамен. Нажатием клавиш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Экзамен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ам будут выданы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очерё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есять вопрос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 каждого вопроса нужно выбрать правильный, на ваш взгляд, ответ и кодом отметить его. После ответа появляется следующий вопрос,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верно или неверно вы отвечаете – будет известно в конце экзамена).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м.рис.10 и 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148360" cy="3168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979640" y="33577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9280" y="3328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3860640"/>
            <a:ext cx="475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опросы  с 1-го  по  9-й  уже  были   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да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тве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стался последний.  В каждом вопросе, при необходимости, можно было запрашивать и смотреть вид самой схемы или графика, чтобы понять суть заданного вопроса. Сейчас, в 10-м вопросе, это и выполним. Схему или график вызывают нажатием соответствующей клавиши. Сейчас нам нужен график, его и вызываем (см.рис.11),нажимая  на  клавишу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Показать  график»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3933720"/>
            <a:ext cx="414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авнивая сам график и вопрос к нему, ищем в ответах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нужны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по нашему мнению, и его кодом   делаем отв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прос был последним, поэтому, после ответа на него, программа выдаст сразу заключение по результату экзамена. (см.рис.12 на следующей страниц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0920" y="68400"/>
            <a:ext cx="8713800" cy="3639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760920" y="3760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221000"/>
            <a:ext cx="89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д Вами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о проведённой экзаменационной работе и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соответствующий выв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определить, где были допущены ошибки, из какой темы, надо вызвать файл отчёта, нажав, соответственно, клавишу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файл отчёта».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См. сл. страницу, рис.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192560" y="515772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805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516640"/>
            <a:ext cx="9144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д  нами  распечатка проведенной экзаменационной  работ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о-перв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тчёт именной.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Это Ваш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результат экзаме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идно, на какие вопросы дан верный ответ, а на какие – неверно. По самому вопросу  видно, в какой теме у учащегося пробел. Эту тему ему нужно ещё раз проштудировать. Затем снова выйти на экзамен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Этот отчёт можно распечатать, если послать команду, нажав клавиш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еча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видите, уважаемый собеседни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агаемая   Вам   программа действительно многофункциональная и проста в управлении. Что  более ценно для Вас – живая демонстрация,  возможность самообучения или самоконтроля, может  скорость  получения  правильного  ответа, а  может,  даже , практическая  возможность  применения  ее  в  быту  ---    судить потребител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 мне, как преподавателю, больше всего нравится  в  программе  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живая демонстрация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сходящих процессов,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позволяющая показывать  и  видеть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то,  о  чем  формулы  только  лишь  говоря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егодня учител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им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воём арсенале   компьютерную    технику  с  ее богатыми возможностями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олжен получа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ля работы с учениками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хорошие методические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удобные  для  примене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овременно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техник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При   этом   наиболее  удобны  учителю   в  работе  будут компьютерные   методические  разработки  в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е  отдельных  т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дисциплины  (не весь учебник целиком, и не поурочные разработки, а именно по темам) . Обязанность  учителя – создать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поурочные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метод.  разработки,  которые  именно  ему   удобны,  сделаны  в  его  манере  вести  объяснение  и  диалог  с  учениками,  соответствуют  его  темпераменту.  Каждый  учитель  --  индивидуум:   что  ему  хорошо  и  удобно,  другому  может  вообще  не  годиться.  Поэтому   поурочные  разработки  –  учитель должен  сам себе  сделать  на  свой  вкус,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имея тематическую разработку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Разработка  целого   учебника не может быть так подробно методически  разработана для работы, как какая-нибудь отдельная  тем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же  потому, что  такой  задачи  не  стоит)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хотя  компьютерные  учебники   совсем  отрицать  не  сто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Программа,   с  которой  Вы   познакомились,  относится  именно  к компьютерной  тематической    разработк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 В  настоящее  время  программа  имеет  статус  «авторская»  и  в  розничной  продаже  пока   не  существу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емонстрированная   Вам программа  может   быть  использована  учителем не  только как  уже  готовый  метод.  материал,  но  и   как  базовый,  для   создания   своих   методических   разработок (поурочные, проблемные, воспитательные и т.д.),  необходимых  для  защиты   при   повышении  Вам  разряда  или  квалификации,  при  подготовке  к  олимпиад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284640"/>
            <a:ext cx="0" cy="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3640" y="321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2421000"/>
            <a:ext cx="1944360" cy="0"/>
          </a:xfrm>
          <a:prstGeom prst="line">
            <a:avLst/>
          </a:prstGeom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108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288108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133720"/>
            <a:ext cx="3059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1.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ГЛАВЛЕНИЕ     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22050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227664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924280"/>
            <a:ext cx="889308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жд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рограмме  содержит  свой  необходимый минимум  учебного материала  (см.рис.2)  и свою электрическую схему (см.рис.3).   Электрические схем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рабатываю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одно мгновение и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показывают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 происходящие  измене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электрической цепи  в   данный момент, если задать величины её элемент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на это потребуется всего примерно  7-10 секун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  Благодаря этому данная программа  является  отличным  «живым»  наглядным пособием, при этом быстродействующим, быстросменным и многофункциона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может обеспечить за счёт большого числа тестов самообучение и контроль за качеством усвоения учебного материала, при этом обучающийся может сам себя проверять с помощью электрических схем или выдаваемых ему сове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арантия того, что Вы успешно овладели и поняли весь учебный материал указанных тем, служ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чтенна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экзаменационная работа, которая оценивается программой автоматически по окончании экзаме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может выдать распечатку контрольных вопросов и ответов на них, помогая этим обратить внимание обучающегося на упущенные момен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ывая, что распечатки экзамена именные, то любые трения (учитель—ученик—родитель) по вопросу недоверия оценке сама программа исключа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92360" y="764640"/>
            <a:ext cx="50328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404640"/>
            <a:ext cx="71640" cy="576360"/>
          </a:xfrm>
          <a:custGeom>
            <a:avLst/>
            <a:gdLst>
              <a:gd name="textAreaLeft" fmla="*/ 0 w 71640"/>
              <a:gd name="textAreaRight" fmla="*/ 2592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79640" y="692280"/>
            <a:ext cx="216000" cy="7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89000"/>
            <a:ext cx="85676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312"/>
                </a:solidFill>
                <a:latin typeface="Arial"/>
              </a:rPr>
              <a:t>Для учителя</a:t>
            </a:r>
            <a:r>
              <a:rPr b="1" lang="en-US" sz="2400" spc="-1" strike="noStrike">
                <a:solidFill>
                  <a:srgbClr val="fa3312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a33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программа (наглядное пособие) будет служить живой, мобильной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демонстрацией решения любых задач и проблемных вопрос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большинство которых не ставит и даже не может поставить ни один из учебников.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Учитель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ожет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с помощью этой программы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ить и показать реш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тольких неожиданных, порой, казалось бы, невероятных задач и проблем, сколько он сам способен их придумать. И это будет сделано без нудных действий на доске с мелом и тряпкой, даже с фломастером, а быстро и просто, красиво и умно, даже интересно –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 помощью «живых» схем данной программы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этом данная программа сильно выигрывает у учебника, даже если он очень хорошо и в цвете иллюстрирован. При этом , заметьте, сколько раз вы будете погружать в познание своими вопросами ученика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ли он сам это сдела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столько раз будет происходить расширение его кругозора и глубины понимания учебного 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честве примеров на следующих страницах презентации Вам будут показаны несколько (из множества) возможных вопросов и их решений на схемах програм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йчас каждый показываемый фрагмент будет «застывшее» мгновение, а при работе с программой всё это можно будет наблюдать в динамике: </a:t>
            </a:r>
            <a:r>
              <a:rPr b="1" lang="en-US" sz="1600" spc="-1" strike="noStrike">
                <a:solidFill>
                  <a:srgbClr val="750ffd"/>
                </a:solidFill>
                <a:latin typeface="Arial"/>
              </a:rPr>
              <a:t>меняя какой-то параметр в схеме, можно увидеть само изменение параметра и наблюдать последствия этого измен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0ffd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344520" y="6613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877000"/>
            <a:ext cx="8099280" cy="824040"/>
          </a:xfrm>
          <a:prstGeom prst="rect">
            <a:avLst/>
          </a:prstGeom>
          <a:solidFill>
            <a:srgbClr val="fa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4311c"/>
                </a:solidFill>
                <a:latin typeface="Arial"/>
              </a:rPr>
              <a:t>Управление  программой и её задачами осуществляется одним кликом левой кнопки  мыши, поставив курсор в нужное место на экра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КТИЧЕСКИЕ ВОЗМОЖН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и данная программа позволяет изучить и последовательную электрическую цепь, и параллельную, и смешанную. Можно смоделировать и свёртывание электрических  схем, определять величины эквивалентных сопротивлений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) и показывать  их действ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позволяет изучать и полную электрическую цепь (от влияния величин тока нагрузки и внутреннего сопротивления источников, вплоть до наблюдения величины тока короткого замыкания, величины ЭДС источника, величины падения напряжения на зажимах  источника при различных нагрузка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более глубокого развития понимания процессов, происходящих в электрических цепях, программа содержит тему  «Потери напряжения в провода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обычных школах нет этого раздела в программах физики, а вот  технические  училища, лицеи  изучают эту тему , да и при подготовке     учеников к олимпиадам   дополнительные развивающие сведения  не   будут  лишними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9600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33360"/>
            <a:ext cx="2266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ы открыть следующую страницу в программе, надо поставить курсор на свободное место титульного листа и сделать один клик мыш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рывшаяся следующая   страница покажет вам оглавление програм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67640" y="155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005360"/>
            <a:ext cx="2087640" cy="1189080"/>
          </a:xfrm>
          <a:prstGeom prst="rect">
            <a:avLst/>
          </a:prstGeom>
          <a:solidFill>
            <a:srgbClr val="ff99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казанная выше рекомендация действует только в самой программе,  Вам сейчас  надо  просто перевернуть страницу 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872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964720" y="1125360"/>
            <a:ext cx="179280" cy="3168720"/>
          </a:xfrm>
          <a:prstGeom prst="upArrow">
            <a:avLst>
              <a:gd name="adj1" fmla="val 50000"/>
              <a:gd name="adj2" fmla="val 441867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525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373720"/>
            <a:ext cx="5851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 откры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глав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ограм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десь сосредоточена вся база программы и элементы её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4840" y="63817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4365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4508640"/>
            <a:ext cx="8785440" cy="240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Именно с этой странички программы Вы будете открывать нужную тему или задачу.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                                                                 </a:t>
            </a: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(для  примера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(Для этого  надо курсором указать на нужную клавишу и сделать один клик  мышкой )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оминаю,</a:t>
            </a:r>
            <a:r>
              <a:rPr b="1" lang="en-US" sz="1400" spc="-1" strike="noStrike">
                <a:solidFill>
                  <a:srgbClr val="f66312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что   заказываемую     команду  будет  исполнять  только  сама    программа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рограммные  команды  в  презентации</a:t>
            </a: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  НЕ   действуют!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еверните   эту   страницу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131280" y="2997360"/>
            <a:ext cx="358920" cy="2519280"/>
          </a:xfrm>
          <a:custGeom>
            <a:avLst/>
            <a:gdLst>
              <a:gd name="textAreaLeft" fmla="*/ 37800 w 358920"/>
              <a:gd name="textAreaRight" fmla="*/ 314280 w 358920"/>
              <a:gd name="textAreaTop" fmla="*/ 1839240 h 2519280"/>
              <a:gd name="textAreaBottom" fmla="*/ 22071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8447"/>
                </a:moveTo>
                <a:lnTo>
                  <a:pt x="15770" y="18447"/>
                </a:lnTo>
                <a:lnTo>
                  <a:pt x="15770" y="2313"/>
                </a:lnTo>
                <a:lnTo>
                  <a:pt x="13093" y="2313"/>
                </a:lnTo>
                <a:lnTo>
                  <a:pt x="17347" y="0"/>
                </a:lnTo>
                <a:lnTo>
                  <a:pt x="21600" y="2313"/>
                </a:lnTo>
                <a:lnTo>
                  <a:pt x="18923" y="2313"/>
                </a:lnTo>
                <a:lnTo>
                  <a:pt x="1892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404640"/>
            <a:ext cx="351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260280"/>
            <a:ext cx="37800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0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  вошли  в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учебной  программы.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емы  для  изучен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первые  четыре     клавиши   в  соответствии  с  названием  темы  каждая.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стальные  клавиш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выполняют    задачи   соответственно   их   надписи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2349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7:34:35Z</dcterms:created>
  <dc:creator>Arkadiy</dc:creator>
  <dc:description/>
  <dc:language>en-US</dc:language>
  <cp:lastModifiedBy>User</cp:lastModifiedBy>
  <dcterms:modified xsi:type="dcterms:W3CDTF">2009-08-01T10:28:58Z</dcterms:modified>
  <cp:revision>295</cp:revision>
  <dc:subject/>
  <dc:title>         ПРЕЗЕНТАЦИЯ</dc:title>
</cp:coreProperties>
</file>